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54C-1876-48D5-92DE-FBD3D3C7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C61-9991-4F7C-940B-2E33D28A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391-7856-4FC6-ACEB-1AD64030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ECB-1CAF-49E6-B73B-BA0AAB90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A89C-630E-460E-A217-E3E3740B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C0C-762B-440C-B7D8-C32D9315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8138-7C64-4F0E-9532-48424492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C150-C954-4246-9C37-E8EE3E96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7540-0FB9-4823-B38C-2B939ED8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EC4A-FB23-4B79-AD48-CE5EA449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807F-DA52-4644-8B2A-2D56F2BE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8F9-1846-4473-84B0-DAB634EE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D088-BAD6-41DD-B8FD-8A02D8A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7533-0ADE-4A53-9052-BC1AB8C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38AD-B0F7-4AA2-82A7-7E4B33EF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A59A-F94D-45B8-BE6F-7199ADD7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B41-263E-497F-9A33-82957D76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2C4-7B7E-4891-B548-7E0E51B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AB5-0BC2-4E36-8A02-1B8043BC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9E3-97DA-40FA-BC64-DD1245C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5C6-F776-4185-9B5A-8688E2D9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7C0-6C89-4DAE-87EF-020FD7A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CC2-22DA-4EA3-9429-5C12E42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881-1EED-471B-B716-69FBEDDA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9B08-E4A9-48AD-917A-9062445E3D8F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2A5C-030F-4E48-8E03-0F372130D48B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ff"/>
                </a:solidFill>
                <a:latin typeface="Tahoma"/>
              </a:rPr>
              <a:t>A-KORTTI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4886280" cy="37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no Ajokort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640-CD22-4385-94BB-5458AE1343C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.1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KSTINKÄSITTEL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ekstin kirjoittamin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llenn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uetoiminno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otoil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uluko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uvan lisäämin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ulost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44016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no Ajokort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40A-515D-4658-BD67-03E44CF576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.1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AULUKKOLASKENT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ietojen syöttämine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llennu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aavojen laatimine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uetoiminno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uotoilut ja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hostee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aavioiden laatimine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343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no Ajokort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927-334A-4369-9D53-8DF6D68E52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.1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1:08:57Z</dcterms:created>
  <dc:creator>atk</dc:creator>
  <dc:description/>
  <dc:language>en-US</dc:language>
  <cp:lastModifiedBy>Kurssi</cp:lastModifiedBy>
  <cp:lastPrinted>2001-01-09T07:40:44Z</cp:lastPrinted>
  <dcterms:modified xsi:type="dcterms:W3CDTF">2003-02-17T11:26:14Z</dcterms:modified>
  <cp:revision>8</cp:revision>
  <dc:subject/>
  <dc:title>Ei dian otsikkoa</dc:title>
</cp:coreProperties>
</file>